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A0C2-27B1-4020-97D1-C02ABE38BC2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5B25-4FDB-4632-87F6-6FB16E995DA9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A2D2-60F2-4110-B812-0861762C08C5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BE62-7649-4D7B-8D6E-2EBBC73CC346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B347-B18B-4E7E-8C1B-11F947DE76C1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7291-9891-47E9-A579-D71AFC961DF9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5536-BDB8-4F56-9E24-4350B2E4FCF6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3B53-40DB-4E03-9F99-EB257BD66773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325E-6E28-4E77-9BF7-47974EC732E6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54A8-9203-4D2A-BD6E-37D41AA8AE20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AA2A-7601-4110-94E3-AE05816B69CB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2E2E-FDE5-49EA-A49B-A3E1C1671628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09A8-C42B-4E4C-8B01-93D3C0C70013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3F2B-063F-4C81-BA45-AAD55304FB30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D893-705A-4C5E-8F81-D94713478F0E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2028-B174-43D5-987C-DCBC3BE7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B5E6-3362-4088-862F-A843473C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429A-5D5A-41DC-951E-C728C28A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A037-FBAD-4635-9915-DC2FF417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C7F3-C61A-4794-93C0-1FD98156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FD6B-3A75-47A7-A7C7-7375E8D1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18C8-0A2D-4471-95B5-3CBEC79D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2C0D-0E4F-4FCE-B200-83531137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E614-611D-47F3-AC49-2E0FC1A4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C636-19DA-4637-8811-4BB2AA3C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E54B-BBBB-4145-B239-E2EC34E3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7A0A-4E0D-4D02-828B-1AD1667C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446D-67EF-49D7-AA75-23453DB8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F3FB-8E0B-4501-A56F-CE0B70AC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7306-4CC7-4A0E-AD3D-1CAE45C7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702A-7755-4502-ABE3-145EF331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C41C-A132-4C3F-9C2B-E55BE0A4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0649-1F0C-45E8-9E1D-4FA746AC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1281-2647-4587-A7B3-36DE0821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E08A-D6F9-462B-BC8E-375F6D2E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86D4-1DC2-454E-A2A0-86303981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EEE8-E1B5-4E28-9C40-0A55AAA7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A5C3-E3ED-4629-8063-27AB0042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6542-6C94-499C-BDD5-5CEAB5CE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B11A-717C-4025-9F48-7B0C252B105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F76F-9BD3-4DFF-A2AC-E624530F26DE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7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dfdef6"/>
                </a:solidFill>
                <a:latin typeface="Arial"/>
              </a:rPr>
              <a:t>The Holocaust: The Aftermath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324000" y="5536800"/>
            <a:ext cx="8496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id Canada do enough to help Holocaust survivors rebuild their li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7" descr="krakow_auschwitz"/>
          <p:cNvPicPr/>
          <p:nvPr/>
        </p:nvPicPr>
        <p:blipFill>
          <a:blip r:embed="rId1"/>
          <a:stretch/>
        </p:blipFill>
        <p:spPr>
          <a:xfrm>
            <a:off x="1547640" y="1052640"/>
            <a:ext cx="5715000" cy="38480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8"/>
          <p:cNvSpPr/>
          <p:nvPr/>
        </p:nvSpPr>
        <p:spPr>
          <a:xfrm>
            <a:off x="1619280" y="4869000"/>
            <a:ext cx="56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ffffff"/>
                </a:solidFill>
                <a:latin typeface="Arial"/>
              </a:rPr>
              <a:t>http://www.krakow-poland.com/News/Auschwitz-S-Arbeit-Macht-Frei-Entrance-Sign-Stolen-By-Thieves,ghi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fdef6"/>
                </a:solidFill>
                <a:latin typeface="Arial"/>
              </a:rPr>
              <a:t>Canada and the Universal Declaration of Human Right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1946 John Peters Humphrey appointed the Director of the Human Rights Division of the UN Secretari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Principal drafter of Universal Declaration of Human Rights, unanimously accepted by the UN General Assembly in 19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4" descr="jph-eng"/>
          <p:cNvPicPr/>
          <p:nvPr/>
        </p:nvPicPr>
        <p:blipFill>
          <a:blip r:embed="rId3"/>
          <a:stretch/>
        </p:blipFill>
        <p:spPr>
          <a:xfrm>
            <a:off x="6443640" y="2276640"/>
            <a:ext cx="2057400" cy="33019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6"/>
          <p:cNvSpPr/>
          <p:nvPr/>
        </p:nvSpPr>
        <p:spPr>
          <a:xfrm>
            <a:off x="6372360" y="5516640"/>
            <a:ext cx="22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ffffff"/>
                </a:solidFill>
                <a:latin typeface="Arial"/>
              </a:rPr>
              <a:t>http://www.pch.gc.ca/pgm/pdp-hrp/humphrey/index-eng.cf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Universal Declaration of Human Right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human beings are born free and eq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entitled to the rights and freedoms of the Decl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to life, liberty an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lishment of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ne shall be subjected to torture or cruel, inhuman or degrading treatment or pun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to recognition everywhere before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Canadian Immigr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uring the Holocaust, Canada admitted 5000 Jewish refugees – one of the lowest among refugee admitting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1947 Privy Council Order #1647 changed Jewish immigration to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rompted War Orphans Project, which allowed 1,123 Holocaust orphans to come to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By the end of the 1940s 40,000 Holocaust survivors were allowed into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War Orphans – Case Stud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lease choose </a:t>
            </a: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one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f the four orphans’ stories, and use the information in it to answer the questions in the work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xplain to your group members what the Canadian government did to help the orphan you sel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or homework, please write 1-2 paragraphs answering the question, “Did Canada do enough to help Holocaust survivors rebuild their live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pecific examples from the War Orphans’ st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d your position, and be sure to include actions the governme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u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taken to make things easier for Holocaust surviv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Video Clip – Band of Br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uremburg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anadian post-war immigration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ase study – War Orph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Video Clip – Band of Broth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ontext of the cl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7" descr="big"/>
          <p:cNvPicPr/>
          <p:nvPr/>
        </p:nvPicPr>
        <p:blipFill>
          <a:blip r:embed="rId2"/>
          <a:stretch/>
        </p:blipFill>
        <p:spPr>
          <a:xfrm>
            <a:off x="1619280" y="2565360"/>
            <a:ext cx="5689440" cy="28321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9"/>
          <p:cNvSpPr/>
          <p:nvPr/>
        </p:nvSpPr>
        <p:spPr>
          <a:xfrm>
            <a:off x="1763640" y="5373720"/>
            <a:ext cx="54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ffffff"/>
                </a:solidFill>
                <a:latin typeface="Arial"/>
              </a:rPr>
              <a:t>http://www.hbocanada.com/bandofbrothers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Band of Brothers - Debrief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Describe what you saw in the cl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hy did the soldiers make the civilians clean u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3 corners: Were the American soldiers’ actions too harsh, just right, or not harsh enoug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lease move to the corner you feel appropriate and discuss with your classm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The Nuremburg Tria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he International Military Tribunal (IMT) was convened by American, British, French and Soviet personnel in 1946 headed by American Justice Robert H. Jack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ied 24 individuals and 7 organizations with Crimes Against Humanity, Crimes Against Peace and War Cr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8" descr="5529_image"/>
          <p:cNvPicPr/>
          <p:nvPr/>
        </p:nvPicPr>
        <p:blipFill>
          <a:blip r:embed="rId3"/>
          <a:stretch/>
        </p:blipFill>
        <p:spPr>
          <a:xfrm>
            <a:off x="4643280" y="1628640"/>
            <a:ext cx="4038840" cy="321624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10"/>
          <p:cNvSpPr/>
          <p:nvPr/>
        </p:nvSpPr>
        <p:spPr>
          <a:xfrm>
            <a:off x="4643280" y="4941720"/>
            <a:ext cx="412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ffffff"/>
                </a:solidFill>
                <a:latin typeface="Arial"/>
              </a:rPr>
              <a:t>http://www.secondstory.com/portfolio/works/the-nuremberg-trials-what-is-justi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Nuremburg Innov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ternational Tribu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dividuals tried, not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 immunity for heads of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stablished Crimes Against Humanity (murder, torture, ra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Nuremburg Trials - Judg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12 of the defendants were sentenced to death by han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3 were sentenced to life impris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4" descr="nuremberg_defendants"/>
          <p:cNvPicPr/>
          <p:nvPr/>
        </p:nvPicPr>
        <p:blipFill>
          <a:blip r:embed="rId3"/>
          <a:stretch/>
        </p:blipFill>
        <p:spPr>
          <a:xfrm>
            <a:off x="4643280" y="1700280"/>
            <a:ext cx="4038840" cy="30114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6"/>
          <p:cNvSpPr/>
          <p:nvPr/>
        </p:nvSpPr>
        <p:spPr>
          <a:xfrm>
            <a:off x="4643280" y="4797360"/>
            <a:ext cx="403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ffffff"/>
                </a:solidFill>
                <a:latin typeface="Arial"/>
              </a:rPr>
              <a:t>http://www.jewishvirtuallibrary.org/images/nuremberg_defendants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Nuremburg - Legac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evelopment of International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erved as a model for the development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Universal Declaration of Human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Geneva Con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Establishment of the International Criminal Court (IC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Nuremburg Shortcoming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Victor’s Justice – did the Allies have the right to put Nazi war criminals on trial when they themselves were guilty of committing heinous crim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9:51:42Z</dcterms:created>
  <dc:creator>David</dc:creator>
  <dc:description/>
  <dc:language>en-US</dc:language>
  <cp:lastModifiedBy>admin</cp:lastModifiedBy>
  <dcterms:modified xsi:type="dcterms:W3CDTF">2010-10-29T05:02:49Z</dcterms:modified>
  <cp:revision>9</cp:revision>
  <dc:subject/>
  <dc:title>The Holocaust: The Aftermath</dc:title>
</cp:coreProperties>
</file>